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45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3886200" y="868644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5E154-56BD-44A9-BAEC-72014155A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C7604-1F62-4C6C-B1E9-64682C79F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305C0-0570-4BF2-A4D6-3D5452099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5FE28-6FA4-4FCE-A006-B08D9259A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4876F-A43B-4AC9-94B0-18C74A444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0E604-A99D-4A6F-8304-F7BCB19B14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E5753-80E7-478D-8C17-E605BF175F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DB7D-B2BC-4D20-B355-9621E1A95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3A807-EAD6-4E7A-8B24-4CBFBCB1D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9EA7D-35C4-4246-8835-32E0EF737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954EB-9389-4A81-8649-AE5624ED7D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05F31-B445-4DD5-8C49-ED7FE7B9F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2D612-F80E-43EC-9D14-441804EFB0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B5B3-B756-45B5-B119-7CFA94B66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0864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5745C-5DE1-40DD-A9B6-DF22C11F95C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CT 333: Imagining the Audience in a Wired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6: Cognitive Psychology/Understanding Human Traits Continued/Intro to Research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raging Mental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s surrogate for actual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stency and Coh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for Error and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paration for cognitive dissonance and fru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-education and persuasion (attention iss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eaking Mental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new technology or process changes or invalidates user mental mode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ffman's breaching experiments – effect on individuals when mental models deliberately vio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solu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I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ambig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in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g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m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or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r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h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: New input/output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devices and tools challenge pre-existing notions of interaction - require readjustment on the part of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: V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x 3D worlds to create immersive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ilures of early and current 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Life as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t is - and what it is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ative vs. Quantitative - general differen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 personal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PS - analysis of 1) how school adapted to computers in the classroom and 2) how students could inform design of educational softwar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SAE - analysis of how racecar team engaged organizational learning successfully despite 1) having limited resources and 2) turnover 40-66%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 example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 Seminar - online class analyzed through content analysis - apparently done “wrong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smouth Tavern - analysis of student/townie relations in a local pub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Two Weeks (hopefully on schedu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ative and quantitative research methods – with a focus on what you can do when you don't have access to the population at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s tonight give some ideas to consider on th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ministriv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ike up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l projec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t Elements of Cognitive Psyc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ory (sensory, working and long-ter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all and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stalt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nt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on and persua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ally a sensory phenomenon, but influenced by past expectations, culture,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/green/blue, Paris in the the Spring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stency is assumed - can lead to il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sta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/Whole - we understand parts as part of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ximity - close things are grou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inuity - patterns are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ity - similar things are seen as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ure - we fill in ga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pth Perce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ve size and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tion parall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lap and Tex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have to be faked in 2D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ception and Col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ur can be used to accent, highlight commona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abused (e.g., too many colours, clashing colour sche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pretation by cultural constr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urblinde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ntal Mode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simonious models of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rages long-term memory to focus attention on important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 between designer, user and system models are common and a major source of desig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man on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ly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rel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gue bound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stitious or illog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ye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20:05:03Z</dcterms:created>
  <dc:creator/>
  <dc:description/>
  <dc:language>en-US</dc:language>
  <cp:lastModifiedBy>Sheridan College</cp:lastModifiedBy>
  <dcterms:modified xsi:type="dcterms:W3CDTF">2009-02-02T17:52:03Z</dcterms:modified>
  <cp:revision>26</cp:revision>
  <dc:subject/>
  <dc:title>CCT 333: Imagining the Audience in a Wired World</dc:title>
</cp:coreProperties>
</file>